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487-E206-4AC0-B2C6-83E01233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A8A5-063D-4569-A0E3-A67CBDB2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EC6-A4EE-4D93-BE91-726E8F09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9CF-9528-49DB-89F3-0DC57A43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CF4-ED45-4783-99C5-E29C05B6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729-3CD1-4F34-BA40-BBD00550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EFDF-22AC-4A3D-A022-EDC0C3D8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B97-2071-48B8-8E47-65C2456B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C80-3EC7-4442-A388-551DBF5C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BE8-6E74-477E-96FB-82001993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B90-36EE-4049-8F9E-B6DE270D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B38-F9D7-41AD-8F3C-E89A70A7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92CA-4D55-445B-A044-407628033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4419720"/>
            <a:ext cx="1752840" cy="17524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JERCICIO DE TEORÍA 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760" y="955800"/>
            <a:ext cx="8702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 compañía de teléfonos le ofrece dos sistemas alternativos de cobro del servicio telefónic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n cargo fijo mensual de $6,200 y un costo de $20 por cada llamada realiz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n cargo fijo mensual de $9,500, el cual le permite hacer todas las llamadas que uno desea sin ningún costo adi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 Usted posee una demanda por servicios telefónicos igual 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d = 200 – 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onde: Xd = Número de llamadas telefónicas mensuales y Px = precios por llam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) Que sistema de cobro eligiría? ¿Cuántas llamadas realizaría en cada una de las alternativa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i) Si sólo existiera la alternativa de un cargo fijo mensual, ¿Cuánto sería el máximo cargo que Usted estaría dispuesto a pagar para que no le suspendan el servici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066680" y="4206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06360" y="618804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6734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ecio ($/llamad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79760" y="595944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ntidad de llamadas / 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4419720"/>
            <a:ext cx="1752840" cy="17524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4267080"/>
            <a:ext cx="685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00         18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5867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5943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5181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5181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96720" y="3973680"/>
            <a:ext cx="3013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lternativa 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 P =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d = 200 – P = 200 – 20 = 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or lo tanto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xcedente = 180 x 180 / 2 = 16,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xcedente neto = 16,200 – 6,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1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7600" y="3962520"/>
            <a:ext cx="2891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lternativa B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rgo fijo = $9,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 = 0 $ / llam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or lo tan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xcedente = 200 x 200 /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xcedente = 2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xcedente neto = 20,000 – 9,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 $10,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4240" y="6060960"/>
            <a:ext cx="314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lijo la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alternativa B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, haría un total de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180 llamada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para la alternativa A y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200 llamada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para la alternativa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0" y="5877000"/>
            <a:ext cx="223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5791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5897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ferta Alt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6175440"/>
            <a:ext cx="223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6360" y="6508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ferta Alt.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233440" y="62085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45086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476360" y="4723920"/>
            <a:ext cx="35892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19:22:37Z</dcterms:created>
  <dc:creator>Administrador</dc:creator>
  <dc:description/>
  <dc:language>en-US</dc:language>
  <cp:lastModifiedBy>Administrador</cp:lastModifiedBy>
  <dcterms:modified xsi:type="dcterms:W3CDTF">2004-11-19T19:22:58Z</dcterms:modified>
  <cp:revision>1</cp:revision>
  <dc:subject/>
  <dc:title>EJERCICIO DE TEORÍA ECONÓMICA</dc:title>
</cp:coreProperties>
</file>