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93BC-D243-4404-A5A3-4ABDD61C1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73CA-49F9-43F4-8BD2-0247891E6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F531-39BD-4630-BF32-8CFBF1157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E189-8C38-464A-BD3A-180FC6CD9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7AA5-23AE-427B-83C8-5482BCA50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0423-82E7-4CF7-B6AA-1C94CF47B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FC1C-022B-44FF-928C-7A683AAE5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8899-3FB0-45DB-98B2-3F15510A5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66FE-8E13-4BF1-9BA0-C016E3313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B625-A341-4B1F-BC02-ED2B2F4B0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CEF4-5481-4F06-8FF9-4005C922A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4C55-8E27-4461-8872-0CE64090A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2AC91-560C-416B-B785-4C4AC5096E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4419720"/>
            <a:ext cx="1752840" cy="1752480"/>
          </a:xfrm>
          <a:prstGeom prst="rtTriangl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5029200" cy="39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EJERCICIO DE TEORÍA ECONÓM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12760" y="955800"/>
            <a:ext cx="87026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Suponga que la familia Fortuna tiene una curva de demanda por llamadas telefónicas igual a:</a:t>
            </a:r>
            <a:br>
              <a:rPr sz="1400"/>
            </a:b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 P = 3 - (X/60) en promedio al mes y que es independiente del nivel de ingreso de la familia.  Dado que la compañía no cobra un precio por cada llamada que se hace y tampoco un cargo mensual por el uso del teléfono, la familia hace 180 llamadas como promedio al m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33520" y="2057400"/>
            <a:ext cx="2835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Solución al ejercicio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1o. Establecer la situación actual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066680" y="420660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066680" y="618804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3673440"/>
            <a:ext cx="1447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Precio ($/llamad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352680" y="5959440"/>
            <a:ext cx="1524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Cantidad de llamadas / m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14400" y="2743200"/>
            <a:ext cx="2133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Cargo fijo =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Costo  variable =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No. de llamadas = 1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66680" y="4419720"/>
            <a:ext cx="1752840" cy="175248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62120" y="4267080"/>
            <a:ext cx="304560" cy="21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 algn="just">
              <a:lnSpc>
                <a:spcPct val="100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 algn="just">
              <a:lnSpc>
                <a:spcPct val="100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 algn="just">
              <a:lnSpc>
                <a:spcPct val="100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 algn="just">
              <a:lnSpc>
                <a:spcPct val="100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 algn="just">
              <a:lnSpc>
                <a:spcPct val="100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 algn="just">
              <a:lnSpc>
                <a:spcPct val="100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 algn="just">
              <a:lnSpc>
                <a:spcPct val="100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14400" y="6248520"/>
            <a:ext cx="21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 algn="just">
              <a:lnSpc>
                <a:spcPct val="100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60      120    1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066680" y="56386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2286000" y="5638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09680" y="4695840"/>
            <a:ext cx="41911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Excedente = Disposición a pagar - lo que se cob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270 = ½ (180 x 3) –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Excedente = $ 270 /mes (Beneficio 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servic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telefónico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2362320"/>
            <a:ext cx="1676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Si P =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0 = 3 - (X/6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Despejando X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X = (60) (3) = 1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3400560"/>
            <a:ext cx="1600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Si P =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1 = 3 - (X/6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Despejando X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X = (60) (2) = 1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705720" y="2362320"/>
            <a:ext cx="1676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Si X =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P = 3 - (0/6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P =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209680" y="556272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rot="10800000">
            <a:off x="2589840" y="5410080"/>
            <a:ext cx="685800" cy="457200"/>
          </a:xfrm>
          <a:custGeom>
            <a:avLst/>
            <a:gdLst/>
            <a:ahLst/>
            <a:rect l="l" t="t" r="r" b="b"/>
            <a:pathLst>
              <a:path w="416" h="400">
                <a:moveTo>
                  <a:pt x="0" y="16"/>
                </a:moveTo>
                <a:cubicBezTo>
                  <a:pt x="176" y="8"/>
                  <a:pt x="352" y="0"/>
                  <a:pt x="384" y="64"/>
                </a:cubicBezTo>
                <a:cubicBezTo>
                  <a:pt x="416" y="128"/>
                  <a:pt x="224" y="344"/>
                  <a:pt x="192" y="4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705720" y="3367080"/>
            <a:ext cx="1600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Si P =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2 = 3 - (X/6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Despejando X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X = (60) (1) = 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066680" y="50292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676520" y="502884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600200" y="4952880"/>
            <a:ext cx="15228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943600" y="5029200"/>
            <a:ext cx="3048120" cy="1707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Curva de demanda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P = 3 - (X/6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(X/60) = 3 – 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X = 180 – 60 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Don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P = $/llamada , X = llamadas/m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62000" y="6175440"/>
            <a:ext cx="2089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384560" y="4435560"/>
            <a:ext cx="95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Deman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1566720" y="4690800"/>
            <a:ext cx="360360" cy="215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390480" y="5589720"/>
            <a:ext cx="67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Ofer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058920" y="5805360"/>
            <a:ext cx="4330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828800" y="228600"/>
            <a:ext cx="5029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Solución familia Fortu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12760" y="955800"/>
            <a:ext cx="8702640" cy="51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Aft>
                <a:spcPts val="700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Suponga que la compañía establece un cargo mensual de $120 por el uso del teléfono.  La familia reaccionará haciendo _______ llamad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Cargo fijo = $ 1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Cargo variable =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No. de llamadas = 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Si acepto el teléfono y el cargo variable es de $0 por llamada, harían todas las llamadas cuya valoración sea mayor que cero, es decir </a:t>
            </a:r>
            <a:r>
              <a:rPr b="0" lang="es-MX" sz="1400" spc="-1" strike="noStrike" u="sng">
                <a:solidFill>
                  <a:srgbClr val="000000"/>
                </a:solidFill>
                <a:uFillTx/>
                <a:latin typeface="Arial"/>
              </a:rPr>
              <a:t>180 llamadas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 (ver gráfico en la diapositiva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La pregunta ahora es ¿debo aceptar el teléfono o nó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Respuesta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Dispuesto a pagar por 180 llamadas = $270, me cobran $120, por lo tanto, acepto el teléfon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Excedente = $15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Aft>
                <a:spcPts val="700"/>
              </a:spcAft>
              <a:buClr>
                <a:srgbClr val="00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El mayor cargo mensual que puede cobrar la compañía de esta familia sin que la obligue a renunciar al derecho de un teléfono es de $ _______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Aft>
                <a:spcPts val="700"/>
              </a:spcAft>
              <a:buClr>
                <a:srgbClr val="00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Respuesta: Toda la disposición a pagar = $ </a:t>
            </a:r>
            <a:r>
              <a:rPr b="0" lang="es-MX" sz="1400" spc="-1" strike="noStrike" u="sng">
                <a:solidFill>
                  <a:srgbClr val="000000"/>
                </a:solidFill>
                <a:uFillTx/>
                <a:latin typeface="Arial"/>
              </a:rPr>
              <a:t>270 pesos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86000" y="4724280"/>
            <a:ext cx="533520" cy="533520"/>
          </a:xfrm>
          <a:prstGeom prst="rtTriangl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828800" y="228600"/>
            <a:ext cx="5029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Solución familia Fortu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12760" y="955800"/>
            <a:ext cx="8702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Aft>
                <a:spcPts val="700"/>
              </a:spcAft>
              <a:buClr>
                <a:srgbClr val="00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Si la compañía cobra $120 mensuales por el derecho al teléfono y un cargo por llamada de $1 hasta un máximo de $120 al mes, la familia Fortuna reaccionará haciendo ________llamad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3505320"/>
            <a:ext cx="1219320" cy="1234800"/>
          </a:xfrm>
          <a:prstGeom prst="rtTriangl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1066680" y="329220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066680" y="527364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95280" y="2781360"/>
            <a:ext cx="1447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Precio ($/llamad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352680" y="5045040"/>
            <a:ext cx="1524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Cantidad de llamadas / m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066680" y="3505320"/>
            <a:ext cx="1752840" cy="175248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62120" y="3352680"/>
            <a:ext cx="304560" cy="21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 algn="just">
              <a:lnSpc>
                <a:spcPct val="100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 algn="just">
              <a:lnSpc>
                <a:spcPct val="100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 algn="just">
              <a:lnSpc>
                <a:spcPct val="100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 algn="just">
              <a:lnSpc>
                <a:spcPct val="100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 algn="just">
              <a:lnSpc>
                <a:spcPct val="100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 algn="just">
              <a:lnSpc>
                <a:spcPct val="100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 algn="just">
              <a:lnSpc>
                <a:spcPct val="100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14400" y="5334120"/>
            <a:ext cx="21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 algn="just">
              <a:lnSpc>
                <a:spcPct val="100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60      120    1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066680" y="47242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286000" y="47242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86000" y="3429000"/>
            <a:ext cx="6400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Respuesta: La familia haría </a:t>
            </a:r>
            <a:r>
              <a:rPr b="0" lang="es-MX" sz="1400" spc="-1" strike="noStrike" u="sng">
                <a:solidFill>
                  <a:srgbClr val="000000"/>
                </a:solidFill>
                <a:uFillTx/>
                <a:latin typeface="Arial"/>
              </a:rPr>
              <a:t>180 llamad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La familia paga $120 de cargo fijo y $120 de cargo variable = Total $2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066680" y="41148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676520" y="411444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600200" y="4038480"/>
            <a:ext cx="15228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39440" y="1687680"/>
            <a:ext cx="2517120" cy="9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Cargo fijo = $ 1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Cargo variable = $ 1 /llama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No. de llamadas = 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042920" y="4724280"/>
            <a:ext cx="1225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82760" y="4705200"/>
            <a:ext cx="0" cy="57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68360" y="5272200"/>
            <a:ext cx="863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09680" y="464832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92640" y="4148280"/>
            <a:ext cx="95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Deman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124000" y="4292640"/>
            <a:ext cx="4320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58560" y="4581360"/>
            <a:ext cx="67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Ofer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>
            <a:stCxn id="97" idx="2"/>
            <a:endCxn id="93" idx="0"/>
          </p:cNvCxnSpPr>
          <p:nvPr/>
        </p:nvCxnSpPr>
        <p:spPr>
          <a:xfrm flipH="1">
            <a:off x="2268000" y="4886280"/>
            <a:ext cx="112968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828800" y="228600"/>
            <a:ext cx="5029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Solución familia Fortu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12760" y="955800"/>
            <a:ext cx="8702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Aft>
                <a:spcPts val="700"/>
              </a:spcAft>
              <a:buClr>
                <a:srgbClr val="000000"/>
              </a:buClr>
              <a:buFont typeface="Arial"/>
              <a:buAutoNum type="alphaL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Si la compañía establece un cargo de $120 mensuales por el derecho a un teléfono y un cargo de $1 por llamada, la familia Fortuna reaccionará haciendo _______ llamad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58520" y="1592280"/>
            <a:ext cx="2517120" cy="9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Cargo fijo = $ 1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Cargo variable = $ 1 /llama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No. de llamadas = 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2120" y="2598840"/>
            <a:ext cx="6400800" cy="12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Respuesta: Si acepto el teléfono, haría 120 llamad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El excedente neto = Disposición a pagar – pagar re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Excedente neto = [(3+1)/2 x 120] – (1)(120) = 1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Por lo tanto, si acepto el teléfono porque el excedente es mayor a 1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86000" y="5910120"/>
            <a:ext cx="533520" cy="533520"/>
          </a:xfrm>
          <a:prstGeom prst="rtTriangl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4691160"/>
            <a:ext cx="1219320" cy="1234800"/>
          </a:xfrm>
          <a:prstGeom prst="rtTriangl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1066680" y="447804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066680" y="645948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95280" y="3967200"/>
            <a:ext cx="1447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Precio ($/llamad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352680" y="6230880"/>
            <a:ext cx="1524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Cantidad de llamadas / m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066680" y="4691160"/>
            <a:ext cx="1752840" cy="175248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538520"/>
            <a:ext cx="304560" cy="21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 algn="just">
              <a:lnSpc>
                <a:spcPct val="100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 algn="just">
              <a:lnSpc>
                <a:spcPct val="100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 algn="just">
              <a:lnSpc>
                <a:spcPct val="100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 algn="just">
              <a:lnSpc>
                <a:spcPct val="100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 algn="just">
              <a:lnSpc>
                <a:spcPct val="100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 algn="just">
              <a:lnSpc>
                <a:spcPct val="100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 algn="just">
              <a:lnSpc>
                <a:spcPct val="100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14400" y="6519960"/>
            <a:ext cx="21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 algn="just">
              <a:lnSpc>
                <a:spcPct val="100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60      120    1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066680" y="59101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2286000" y="59101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066680" y="530064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1676520" y="53002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600200" y="5224320"/>
            <a:ext cx="15228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95640" y="5141880"/>
            <a:ext cx="95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Deman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2124000" y="5445000"/>
            <a:ext cx="432000" cy="24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771280" y="5661000"/>
            <a:ext cx="67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Ofer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062000" y="5921280"/>
            <a:ext cx="244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09680" y="583416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828800" y="228600"/>
            <a:ext cx="5029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Solución familia Fortu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12760" y="762120"/>
            <a:ext cx="8702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Aft>
                <a:spcPts val="700"/>
              </a:spcAft>
              <a:buClr>
                <a:srgbClr val="000000"/>
              </a:buClr>
              <a:buFont typeface="Arial"/>
              <a:buAutoNum type="alphaL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El mayor cargo mensual que la compañía puede obtener de la Familia Fortuna cuando cobra $1 por llamada es de $ _______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066680" y="2457360"/>
            <a:ext cx="1219320" cy="1235160"/>
          </a:xfrm>
          <a:prstGeom prst="rtTriangl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066680" y="2244600"/>
            <a:ext cx="0" cy="198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066680" y="422604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0880" y="1711440"/>
            <a:ext cx="1447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Precio ($/llamad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3997440"/>
            <a:ext cx="1524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Cantidad de llamadas / m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066680" y="2457360"/>
            <a:ext cx="1752840" cy="175284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2305080"/>
            <a:ext cx="304560" cy="21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 algn="just">
              <a:lnSpc>
                <a:spcPct val="100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 algn="just">
              <a:lnSpc>
                <a:spcPct val="100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 algn="just">
              <a:lnSpc>
                <a:spcPct val="100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 algn="just">
              <a:lnSpc>
                <a:spcPct val="100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 algn="just">
              <a:lnSpc>
                <a:spcPct val="100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 algn="just">
              <a:lnSpc>
                <a:spcPct val="100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 algn="just">
              <a:lnSpc>
                <a:spcPct val="100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14400" y="4286160"/>
            <a:ext cx="21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 algn="just">
              <a:lnSpc>
                <a:spcPct val="100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60      120    1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36766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2286000" y="3676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286000" y="2381400"/>
            <a:ext cx="4495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Respuesta: La familia puede pagar hasta </a:t>
            </a:r>
            <a:r>
              <a:rPr b="0" lang="es-MX" sz="1400" spc="-1" strike="noStrike" u="sng">
                <a:solidFill>
                  <a:srgbClr val="000000"/>
                </a:solidFill>
                <a:uFillTx/>
                <a:latin typeface="Arial"/>
              </a:rPr>
              <a:t>$120.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Excedente = 120 x 2 / 2 = $120.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0672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1676520" y="306684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00200" y="299088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068480" y="3683160"/>
            <a:ext cx="244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09680" y="3600360"/>
            <a:ext cx="15264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059280" y="3411360"/>
            <a:ext cx="79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Ofer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00360" y="3068640"/>
            <a:ext cx="10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Deman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41" idx="1"/>
          </p:cNvCxnSpPr>
          <p:nvPr/>
        </p:nvCxnSpPr>
        <p:spPr>
          <a:xfrm flipH="1">
            <a:off x="2121840" y="3220920"/>
            <a:ext cx="578520" cy="280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3" name=""/>
          <p:cNvSpPr/>
          <p:nvPr/>
        </p:nvSpPr>
        <p:spPr>
          <a:xfrm flipV="1">
            <a:off x="1476360" y="2781000"/>
            <a:ext cx="8636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066680" y="3657600"/>
            <a:ext cx="1219320" cy="533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2457360"/>
            <a:ext cx="1219320" cy="1235160"/>
          </a:xfrm>
          <a:prstGeom prst="rtTriangl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828800" y="228600"/>
            <a:ext cx="5029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Solución familia Fortu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12760" y="762120"/>
            <a:ext cx="8702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Aft>
                <a:spcPts val="700"/>
              </a:spcAft>
              <a:buClr>
                <a:srgbClr val="000000"/>
              </a:buClr>
              <a:buFont typeface="Arial"/>
              <a:buAutoNum type="alphaL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Si la compañía establece un cargo mensual de $240  al mes y permite 120 llamadas “gratis” y cobra $1 peso por cada llamada extra, la familia Fortuna reaccionará haciendo _______llamad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066680" y="2244600"/>
            <a:ext cx="0" cy="198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422604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80880" y="1711440"/>
            <a:ext cx="1447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Precio ($/llamad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352680" y="3997440"/>
            <a:ext cx="1524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Cantidad de llamadas / m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066680" y="2457360"/>
            <a:ext cx="1752840" cy="175284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120" y="2305080"/>
            <a:ext cx="304560" cy="21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 algn="just">
              <a:lnSpc>
                <a:spcPct val="100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 algn="just">
              <a:lnSpc>
                <a:spcPct val="100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 algn="just">
              <a:lnSpc>
                <a:spcPct val="100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 algn="just">
              <a:lnSpc>
                <a:spcPct val="100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 algn="just">
              <a:lnSpc>
                <a:spcPct val="100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 algn="just">
              <a:lnSpc>
                <a:spcPct val="100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 algn="just">
              <a:lnSpc>
                <a:spcPct val="100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14400" y="4286160"/>
            <a:ext cx="21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 algn="just">
              <a:lnSpc>
                <a:spcPct val="100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60      120    1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066680" y="36766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2286000" y="3676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924280" y="2581200"/>
            <a:ext cx="4495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La familia no está dispuesta a realizar la llamada 121, el beneficio marginal es menor que el $1 que le cobraría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066680" y="30672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676520" y="306684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340000" y="3047760"/>
            <a:ext cx="631800" cy="1028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081080" y="4219560"/>
            <a:ext cx="121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2286000" y="365760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286000" y="3657600"/>
            <a:ext cx="914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81080" y="1905120"/>
            <a:ext cx="6629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Excedente = [ (Base mayor + base menor) x altura ] / 2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= [ (3 + 1) x 120 ] / 2 = 240 $/mes.   Por lo tanto, </a:t>
            </a:r>
            <a:r>
              <a:rPr b="0" lang="es-MX" sz="1400" spc="-1" strike="noStrike" u="sng">
                <a:solidFill>
                  <a:srgbClr val="000000"/>
                </a:solidFill>
                <a:uFillTx/>
                <a:latin typeface="Arial"/>
              </a:rPr>
              <a:t>Cargo fijo = $2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1295280" y="2209320"/>
            <a:ext cx="114300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743200" y="4968720"/>
            <a:ext cx="571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Respuesta: La familia reaccionará haciendo </a:t>
            </a:r>
            <a:r>
              <a:rPr b="0" lang="es-MX" sz="1400" spc="-1" strike="noStrike" u="sng">
                <a:solidFill>
                  <a:srgbClr val="000000"/>
                </a:solidFill>
                <a:uFillTx/>
                <a:latin typeface="Arial"/>
              </a:rPr>
              <a:t>120 llamadas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31840" y="5803920"/>
            <a:ext cx="5852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Solución al ejercicio propuesto en el libro “Evaluación Social de Proyectos”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rnesto R. Fontaine, Pontificia Universidad Católica de Chile 10</a:t>
            </a:r>
            <a:r>
              <a:rPr b="0" lang="es-MX" sz="12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edi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apítulo IV.- Principios de economía para la evaluación de proyectos, pp 262 y 26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992320" y="3392640"/>
            <a:ext cx="79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Ofer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203640" y="3716280"/>
            <a:ext cx="107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Deman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0" name=""/>
          <p:cNvCxnSpPr>
            <a:stCxn id="169" idx="1"/>
            <a:endCxn id="152" idx="0"/>
          </p:cNvCxnSpPr>
          <p:nvPr/>
        </p:nvCxnSpPr>
        <p:spPr>
          <a:xfrm flipH="1">
            <a:off x="2818800" y="3868200"/>
            <a:ext cx="384840" cy="351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5T16:57:40Z</dcterms:created>
  <dc:creator>Edgar Fosado Morúa</dc:creator>
  <dc:description/>
  <dc:language>en-US</dc:language>
  <cp:lastModifiedBy>Administrador</cp:lastModifiedBy>
  <dcterms:modified xsi:type="dcterms:W3CDTF">2004-11-23T23:01:07Z</dcterms:modified>
  <cp:revision>16</cp:revision>
  <dc:subject/>
  <dc:title>Ejercicio de teoría económica</dc:title>
</cp:coreProperties>
</file>