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5172-5049-4886-AAF8-13C5BAD4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8C1-648B-40A4-B77D-899FDC78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2C1B-142C-447D-90CC-39766C0B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B27-C195-4665-8C21-80AA3778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4099-EC4D-4CA6-BA96-02F6364D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AFF7-1149-4730-B238-9332A341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13A-78E9-4975-9711-8ED69684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40F7-C96D-4344-838A-C1A5469E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812A-0A05-428E-80FF-29670041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D006-A8C8-4F2A-A271-7D88F6E0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36F0-C038-4638-AD97-FEFD9B6F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CC91-C1A6-4BE7-B399-173E1EED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3572-7BCD-4266-BBB9-3A45D2828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6200" y="189000"/>
            <a:ext cx="837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RCICIO. Carreteras- Ampl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2.- Se ha periodizado de lunes a domingo la carretera “P-1”, según se muestra en el cuadro siguie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692360" y="923760"/>
          <a:ext cx="4921200" cy="113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923760"/>
                    <a:ext cx="492120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24000" y="2147760"/>
            <a:ext cx="8424720" cy="46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 plantea un </a:t>
            </a:r>
            <a:r>
              <a:rPr b="0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proyecto de ampliación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de la carretera “P-1” que permitiría reducir los costos de tiempo a $6 por vehículo y los costos de operación a $5 por vehícu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la carretera alternativa A-2 circulan 250 vehículos/hora en el período de congestión, y en la situación con proyecto se desviarán 120 veh./hora hacia la carretera “P-1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tasa social de descuento es de 12% anu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 pide lo siguie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"/>
              <a:buAutoNum type="alphaL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rafique la situación sin proyecto y con proyecto en la carretera “P-1”, destacando los valores relevantes, para una hora típica de congestión y para una de no congest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"/>
              <a:buAutoNum type="alphaL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lcule el beneficio anual percibido por el tránsito normal de la carretera “P-1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"/>
              <a:buAutoNum type="alphaL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lcule el beneficio anual percibido por el tránsito desviado desde A-2 hacia P-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"/>
              <a:buAutoNum type="alphaL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rafique la situación sin proyecto y con proyecto en la carretera “A-2”, destacando los valores relevantes, para una hora típica de congest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"/>
              <a:buAutoNum type="alphaL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lcule el beneficio o costo anual, provocado por el proyecto en la carretera “A-2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"/>
              <a:buAutoNum type="alphaL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termine el monto máximo de inversión que permitiría que el primer año fuese el momento óptimo de inicio del proyec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038480" y="1828800"/>
            <a:ext cx="68580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1828800"/>
            <a:ext cx="205740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151920"/>
            <a:ext cx="4038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olu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8760" y="53352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981080" y="91404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5053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905480" y="306000"/>
            <a:ext cx="2132640" cy="243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5956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5956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124440" y="-720"/>
            <a:ext cx="198072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533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G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600200"/>
            <a:ext cx="4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2209680"/>
            <a:ext cx="7617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1523880"/>
            <a:ext cx="14479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438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828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18288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2438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990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/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9907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/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2590920"/>
            <a:ext cx="106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con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009960"/>
            <a:ext cx="11430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sin</a:t>
            </a:r>
            <a:br>
              <a:rPr sz="1600"/>
            </a:b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     con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254320"/>
            <a:ext cx="4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2635200"/>
            <a:ext cx="4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2743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3505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600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7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3276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eh./h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34340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eneficio tránsito normal = 600 veh/hr x (14 - 11 $/veh) x (8 hr/día) x (365 día/añ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= $ 5,256,000 / 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38862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5105520"/>
            <a:ext cx="4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5562720"/>
            <a:ext cx="84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eneficio tránsito desviado = 120 veh/hr x (14 - 11 $/veh) x (8 hr/día) x (365 día/añ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= $ 1,051,200 / 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81080" y="1981080"/>
            <a:ext cx="20574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981080"/>
            <a:ext cx="74448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8760" y="53352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981080" y="91404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35053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27432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352680" y="-720"/>
            <a:ext cx="152388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129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129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533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G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1600200"/>
            <a:ext cx="4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1295280"/>
            <a:ext cx="14475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2438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1981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76840" y="24670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9144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S/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2254320"/>
            <a:ext cx="4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2635200"/>
            <a:ext cx="4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3505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2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3276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eh./h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434340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eneficio indirecto  = 130 veh/hr x (14 - 11 $/veh) x (8 hr/día) x (365 día/añ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ránsito normal  = $ 1,138,800 / 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38862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5105520"/>
            <a:ext cx="4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5181480"/>
            <a:ext cx="7238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¿Monto máximo de inversión, 1er. Añ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eneficio neto total = 5,256,000 + 1,051,200 + 1,138,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NT = $ 7,446,000 / 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RI = BN / I, por lo tanto: I = BN / TRI = 7,446,000 / 0.12 = $ 62,05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1600200"/>
            <a:ext cx="14475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12193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C/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438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7:58:59Z</dcterms:created>
  <dc:creator>Edgar Fosado Morúa</dc:creator>
  <dc:description/>
  <dc:language>en-US</dc:language>
  <cp:lastModifiedBy>Administrador</cp:lastModifiedBy>
  <dcterms:modified xsi:type="dcterms:W3CDTF">2004-11-23T23:04:26Z</dcterms:modified>
  <cp:revision>11</cp:revision>
  <dc:subject/>
  <dc:title>Solución ejercicio 2 carreteras</dc:title>
</cp:coreProperties>
</file>