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82BB-2AB0-419D-971E-25881D61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2FC2-9DD6-404F-8574-48309FAC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15A9-9D82-44CE-BC05-DAC7FAE3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A562-56E2-49A5-BC78-02D73FE9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3B3-3F9F-4849-8F4B-CA50CBF5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CDFD-A45C-43A4-8E19-4DBD1C97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3724-31E4-4DE5-8095-179DBAE3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46E1-0FD0-48A8-A143-761E274B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AE02-BFD2-490C-AA11-5BBACB22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396B-90C8-4D6C-8EC7-2F3E8873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F307-2EF9-4CFD-BC05-D50C51CC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1F77-9F05-4A13-A742-701F4E25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FD67-F135-4D23-BF67-2A5B9CEC3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3389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jercicio. Carreteras - Rehabili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773280"/>
            <a:ext cx="8640720" cy="56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3.- Se está estudiando un proyecto que consiste en la </a:t>
            </a:r>
            <a:r>
              <a:rPr b="0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rehabilitación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de una carretera de 50 km. de longitud que une dos municipios del est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la situación actual en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horas de no congestión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(16 hrs. al día) se puede transitar a una velocidad promedio de 80 km./hr. y con proyecto se incrementaría a 90 km./hr.  Por otra parte, usted sabe que durante el período de no congestión, los costos de operación son de $ 5/veh. en la situación sin proyecto y de $ 2/veh. una vez rehabilitad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l tránsito durante el período de no congestión es de 300 veh./hr. y se espera que como consecuencia del proyecto, éste se incremente a 400 (los 100 vehículos adicionales son tránsito desviado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or otra parte, durante el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período de congestión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circulan por esta carretera 1,000 veh/hr., y se espera que este tránsito se incremente a 1,300 en la situación con proyecto (considere los 300 vehículos adicionales como tránsito desviado).  Los costos de operación en que incurren son de $ 7/veh. y $ 2/veh. en las situaciones sin y con proyecto respectivamente y las velocidades de 60 km./hr. en la situación actual y 90 km./hr. cuando se encuentre rehabilitad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una carretera alternativa a la del proyecto, se esperan obtener beneficios indirectos de 12 millones el primer año (estos beneficios corresponden a los percibidos por los vehículos que en la situación con proyecto, siguen circulando por esta carretera alternativa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nsidere una tasa de ocupación de 1 persona/vehículo, una tasa social de descuento del 15% y el valor del tiempo como $7 /hr.-homb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) Calcule apoyándose en gráficas de oferta y demanda, los efectos directos del proyec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) Calcule la inversión que permitiría que el primer año fuese el momento óptimo de inicio del proyecto.</a:t>
            </a:r>
            <a:r>
              <a:rPr b="0" lang="es-ES" sz="14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1270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olu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5360" y="836640"/>
            <a:ext cx="869004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62320" y="1447920"/>
            <a:ext cx="205740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62320" y="5011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0924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100240" y="160200"/>
            <a:ext cx="2381040" cy="182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5956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5956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12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G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12636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2.8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1111320"/>
            <a:ext cx="144792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2025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14158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14158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2025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5778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/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5778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/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2178000"/>
            <a:ext cx="1066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congest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44480" y="1873080"/>
            <a:ext cx="79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5.8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3092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,000   1,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2863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eh./h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0"/>
            <a:ext cx="4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361960" y="198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76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Congest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079440" y="-187200"/>
            <a:ext cx="2590920" cy="24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04" y="1890"/>
                </a:moveTo>
                <a:arcTo wR="10800" hR="10800" stAng="-3335119" swAng="3335119"/>
                <a:lnTo>
                  <a:pt x="10800" y="10800"/>
                </a:lnTo>
                <a:close/>
              </a:path>
              <a:path fill="none" w="21600" h="21600">
                <a:moveTo>
                  <a:pt x="16904" y="1890"/>
                </a:moveTo>
                <a:arcTo wR="10800" hR="10800" stAng="-3335119" swAng="33351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5308560"/>
            <a:ext cx="2361960" cy="48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362320" y="396036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655164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924640" y="3630960"/>
            <a:ext cx="2380320" cy="182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5956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5956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3625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G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51055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9.3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43240" y="4552920"/>
            <a:ext cx="1266840" cy="16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5791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8440" y="530856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5334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5791320"/>
            <a:ext cx="0" cy="760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41148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/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41148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/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5943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44480" y="5638680"/>
            <a:ext cx="79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5.8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43200" y="655164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300  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63230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eh./h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2361960" y="5439960"/>
            <a:ext cx="181908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3581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Sin congest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362320" y="2925000"/>
            <a:ext cx="3504600" cy="3140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04" y="1890"/>
                </a:moveTo>
                <a:arcTo wR="10800" hR="10800" stAng="-3335119" swAng="3335119"/>
                <a:lnTo>
                  <a:pt x="10800" y="10800"/>
                </a:lnTo>
                <a:close/>
              </a:path>
              <a:path fill="none" w="21600" h="21600">
                <a:moveTo>
                  <a:pt x="16904" y="1890"/>
                </a:moveTo>
                <a:arcTo wR="10800" hR="10800" stAng="-3335119" swAng="33351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533520"/>
            <a:ext cx="784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eneficio directo = Beneficio tránsito normal + Tránsito desvi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n congestión)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  (sin congest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D = [1,300 (12.833 – 5.889) (8) (365)] + [400 (9.375 – 5.889) (16) (365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D = $ 34,502,720 /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0160" y="227016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2327400"/>
            <a:ext cx="7848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¿ Máxima inversión, 1er añ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 = 1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eneficio indirecto = $ 12,000,000 /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eneficio total = $34,502,720 + $12,0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T = $ 46,502,7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RI = BN / I, por lo tanto I = BN / TR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 = 46,502,720 / 0.15 = $ 310,018,1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7:58:59Z</dcterms:created>
  <dc:creator>Edgar Fosado Morúa</dc:creator>
  <dc:description/>
  <dc:language>en-US</dc:language>
  <cp:lastModifiedBy>Administrador</cp:lastModifiedBy>
  <dcterms:modified xsi:type="dcterms:W3CDTF">2004-11-23T23:08:32Z</dcterms:modified>
  <cp:revision>11</cp:revision>
  <dc:subject/>
  <dc:title>Solución ejercicio 2 carreteras</dc:title>
</cp:coreProperties>
</file>