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01B-C801-4C4F-9129-131BA961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C1E-7A5D-4E1D-B3AA-723D3E5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D85-C662-455C-A1CA-272640B3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1A0-36E9-4A42-AA63-C5389245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795-5D46-4CCC-BCD5-3DAC0532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C14-5D24-4B35-9275-71897AD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F8E-5544-43C5-A86A-D4F47343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239-9136-452A-A4E1-85FB6965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C6C-E48E-4ABC-8BE1-AC01D6E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804-971C-42EF-A978-F12A017D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F7F-8496-4248-82DD-7653DDA6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F9D-78AF-4364-BDF9-00E947E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11D8-C38A-493B-A05C-84C5B3B0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92280"/>
            <a:ext cx="844524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RCICIO. Carreteras - Amp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.- Se dispone de la siguiente información de un proyecto de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ampli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la carretera principal de 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ado "X", para el primer año de operación (concentrándose sólo en ese a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i no se hace el proyecto, circularían 70 (veh/hr.) en cada una de las 7 horas de congestión con un CGV de $30 por vehículo/viaje.  Si se hiciera el proyecto, el tránsito aumentaría a 80 (veh/hr.) y el CGV bajaría a $10 por vehículo/viaj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las restantes horas, el tránsito es mínimo no existiendo congestión aunque no se haga el proy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una carretera alternativa, también congestionada pasan 30 (veh/hr.) si no se hace el proyecto, bajando a 20 (veh/hr.) al efectuarse el proyecto durante las mismas 7 hrs. de congest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l costo social de la inversión es de $27 millones y la tasa social de descuento es 12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pid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dentifique en una sola gráfica las demandas y ofertas de las situaciones sin y con proyecto, en una hora de congestión en la carretera princip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dentifique en una sola gráfica las demandas y ofertas de las situaciones sin y con proyecto, en una hora fuera de congestión en la carretera princip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cule y grafique los beneficios sociales directos del proy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lcule y grafique los beneficios sociales indirectos provocados por el proyecto en la carretera alternativa en las horas de congestión y en las horas de no congest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ablezca si el primer año es el momento óptimo para inverti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519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ción ejercicio carre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760" y="533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862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90720" y="838080"/>
            <a:ext cx="1440" cy="207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90720" y="291312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0720" y="2303640"/>
            <a:ext cx="171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905480" y="349920"/>
            <a:ext cx="1659600" cy="19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5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827800" y="105120"/>
            <a:ext cx="1542240" cy="21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46280" y="5335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87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32080" y="1327320"/>
            <a:ext cx="112716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0720" y="205884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0720" y="157176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37000" y="1571760"/>
            <a:ext cx="1440" cy="134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6360" y="2058840"/>
            <a:ext cx="1440" cy="85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4480" y="900000"/>
            <a:ext cx="6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8280" y="90000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2720" y="2181240"/>
            <a:ext cx="1093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9112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9131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7760" y="27306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89920" y="59040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retera principal en una hora de con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90720" y="4141440"/>
            <a:ext cx="1440" cy="20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0720" y="5607000"/>
            <a:ext cx="171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52560" y="3654720"/>
            <a:ext cx="1660320" cy="19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5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27800" y="3410640"/>
            <a:ext cx="1542240" cy="219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46280" y="3836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6800" y="4981680"/>
            <a:ext cx="1127160" cy="9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4480" y="4203720"/>
            <a:ext cx="6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8280" y="420372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7080" y="5835600"/>
            <a:ext cx="17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 sin con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7760" y="603396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9560" y="389412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retera principal en una hora sin con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2160" y="6216480"/>
            <a:ext cx="2786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6320" y="1305000"/>
            <a:ext cx="158760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76320" y="598320"/>
            <a:ext cx="0" cy="199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76320" y="2597040"/>
            <a:ext cx="276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6320" y="200988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19800" y="129960"/>
            <a:ext cx="1643760" cy="187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595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5956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759400" y="-109080"/>
            <a:ext cx="1526400" cy="21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41600" y="30492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G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4840" y="1128600"/>
            <a:ext cx="5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70160" y="1068480"/>
            <a:ext cx="1116000" cy="9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6320" y="1774800"/>
            <a:ext cx="2116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6320" y="13050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63920" y="1305000"/>
            <a:ext cx="0" cy="129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92400" y="1774800"/>
            <a:ext cx="0" cy="82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87880" y="65736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51440" y="6573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6160" y="1892160"/>
            <a:ext cx="1428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4840" y="1631880"/>
            <a:ext cx="60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0080" y="2598840"/>
            <a:ext cx="22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70     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0400" y="242100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h/h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04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2040" y="304920"/>
            <a:ext cx="434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cio directo tránsito norm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N = (70)(30-10)(7)(365) = $3´577,000/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cio directo tránsito desvi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D = 10(30-10)(7)(365) = $511,000/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648320"/>
            <a:ext cx="198108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05120" y="3397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987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598760" y="2491200"/>
            <a:ext cx="320292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4896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4896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4640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760" y="403848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5149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S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92120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5118120"/>
            <a:ext cx="48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987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5759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eh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505320"/>
            <a:ext cx="4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2320" y="604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rretera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6280" y="327672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rretera al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2340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648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1055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02120" y="4419720"/>
            <a:ext cx="144756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73600" y="53910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18000" y="46594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2040" y="3333600"/>
            <a:ext cx="434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cio indirectos tránsito norm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N = (20)(30-10)(7)(365) = $1´022,000/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28760" y="5335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838080"/>
            <a:ext cx="7010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cios totales =  BTN + BTD + BTI = 3´577,000 + 511,000 + 1´02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cios totales = $5´110,000/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o de oportunidad de la invers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*r = $27´000,000 (0.12) = $3´24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erio de decisión =&gt; I*r  por lo tanto es conveniente ejecutar el proyec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se obtiene la TR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 = BN / I = 5,110,000 / 27,000,000 = 18.9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58:59Z</dcterms:created>
  <dc:creator>Edgar Fosado Morúa</dc:creator>
  <dc:description/>
  <dc:language>en-US</dc:language>
  <cp:lastModifiedBy>Administrador</cp:lastModifiedBy>
  <dcterms:modified xsi:type="dcterms:W3CDTF">2004-11-23T23:02:42Z</dcterms:modified>
  <cp:revision>12</cp:revision>
  <dc:subject/>
  <dc:title>Solución ejercicio 2 carreteras</dc:title>
</cp:coreProperties>
</file>